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728-AA25-464A-AEB5-AF20288BA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E26-37FD-4654-9865-613D0DB8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87DC-9C6B-4A16-9E3B-82DB372DA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F42-53F1-410F-8B5E-49C25BB8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D14-551C-4D05-8577-9E729217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participants so there are secondary people at each table mixed with the element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5AFE-BE29-4887-9A5F-306B3F8A3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89D-C662-4A80-84C3-F51BC2CF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80B-6B25-4D04-BF40-C234DBB2F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AE9-CA4D-4F37-BB72-8EB92282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9516-F152-489A-8326-DD4526DF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9AE-0B71-43CF-8998-3AC1A230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A5D-8F03-4C15-9626-002DAEF1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53B-E5EA-4BF3-99CB-D65E5F600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11A1-74AE-45ED-8217-5A8EC5D7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F81B-33CA-40C1-B7E4-DED77FD9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D5F-939B-4F68-ACA9-13533324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BE46-A20C-44DE-BECC-2BE87B8E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7129-8C9B-4576-9C2E-C6D05E21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1F70-6825-46E5-85D0-D7DB9639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D02A-B250-4151-9184-C72FD472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3ECC-2A1E-45B3-A197-12FF11E2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D22-DB1F-442B-8518-D49A0DFE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C2E-47F1-4026-8C2D-5B1C2DE3A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A87-E15C-4C04-A66F-77FB8D79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EEB-62D4-4D7E-A847-CF1E67C04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58C-4BE7-4F37-A6F6-2EB5A6086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06C-E105-4501-8AD9-35CCD2BB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37E2-0C4E-4FA3-852C-6B974DC9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E705-BB5A-4723-924A-181D53F5B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DFB-6511-4A94-A692-01954133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4B8B-2A83-4FAA-BF40-8EAC2DC98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316-89FD-4BB1-8F0C-A540598CE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8FB-259A-4B73-BBE8-6A24A5C3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1AE-8225-42EB-985E-FBDFE824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AF31-F020-4AB4-8F8B-75F03FDA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B917-587B-4563-8EFE-F0AB74B2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A61-8167-467F-87DB-AA155945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1D4-77CB-47B8-A6A9-893A0D1EC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709B-61CA-4B66-B736-E0B112A8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75E6-1907-4953-B982-0B99F8D6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5B3D-7313-4B7A-B57A-DC39C2F1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4414-B506-4D11-B4FB-98AD7698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634-A123-4DCE-A846-0BBC1FDE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2CC-43A2-4101-A651-43D12EBA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411C-EEC3-497B-878F-28591B9E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9D96-9940-42F8-9005-DAFB69D6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0B2A-3216-4572-AD6D-439209118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05EB-9D32-486C-B5CF-FCB8FD1C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53CF-2B18-410E-80F8-6F8FF9580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5A6A-4792-40B6-8F64-5A6C98FCF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5B67-C898-451C-8B63-C3696638D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2E5-9E90-420B-9560-16AD17F3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9EB-DE71-4F7C-BBCC-8868848A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B3F6-A07D-4AB1-A81B-CF4B2F81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DE5-ACBF-4CDE-85FE-B83B3E777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5733-71F5-40F5-8A63-3993B6AD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27B-A9BF-4092-99B0-BC9FA2CD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C55F-B40F-45B8-B641-CCC91CA9E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ECC-9DEF-4FA6-99BC-A3D6B798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87E-37B4-43E7-A625-C31B4D98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6C2-B6B7-4CAE-98C9-9F01506C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215-D5BE-40B4-A61F-A643D475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60E-95CE-4D51-B5AD-B3284222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1185-07B5-498D-8E65-833665FA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3AE-C6B9-4911-A9B0-40A3A122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F46-10F5-4E3C-AA7C-F4B4880E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1F03-0C8D-4CDF-AD6C-45316A7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2EB-65F2-4D2A-B058-B5F1E855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2CF6-6F01-4226-8310-9E50370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95A-7024-4A6E-BA55-CA303B8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1DD0-480F-4208-BCA6-39BAABB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55A3-4371-453F-A57B-BC15FEB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A45-F786-4468-87CA-E457A99F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2EB3-3DB8-43AC-A0B5-DF2C1BE6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A2D-038C-465E-8A12-70A1622F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23B-DAC8-47C9-88F3-6DF1773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A8F-062C-4240-93ED-F11D2ED7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BE3-FC4A-483C-9D99-EF17BC1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77A-9B98-4142-9D10-6BB8E34B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D90-5660-4C8F-A845-507CFA7E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034-AF53-4C11-9421-11F49B1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0BC-142D-43F6-8AF6-0B984DE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DE9-1B98-4DAC-8619-32EEDAB2B2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Untitled-1"/>
          <p:cNvPicPr/>
          <p:nvPr/>
        </p:nvPicPr>
        <p:blipFill>
          <a:blip r:embed="rId3"/>
          <a:stretch/>
        </p:blipFill>
        <p:spPr>
          <a:xfrm>
            <a:off x="380880" y="380880"/>
            <a:ext cx="685332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BA9C-988E-4E59-80AD-E12113519D0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</a:rPr>
              <a:t>Plenary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there are giant missing prerequisites that will get in the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AF85-565D-4396-9E66-107283B0C31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066680" y="28954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might tell you that your students already know what you were planning to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DE40-40E8-49B0-8E14-860CBC92AD1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mparing parallel tasks and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769-0198-4B2C-A531-1531D43A919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ook at this pair of parallel tasks. Choose one and try it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F79-95FB-41AD-A1E0-0E56760BF3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838080"/>
            <a:ext cx="419076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648320" y="838080"/>
            <a:ext cx="419076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352680" y="4648320"/>
          <a:ext cx="5335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648320"/>
                    <a:ext cx="533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960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Picture 1.png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4"/>
          <p:cNvSpPr/>
          <p:nvPr/>
        </p:nvSpPr>
        <p:spPr>
          <a:xfrm flipV="1">
            <a:off x="838080" y="1142640"/>
            <a:ext cx="7696440" cy="4419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icture 4.png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134" name="Straight Connector 6"/>
          <p:cNvSpPr/>
          <p:nvPr/>
        </p:nvSpPr>
        <p:spPr>
          <a:xfrm flipV="1">
            <a:off x="457200" y="1752120"/>
            <a:ext cx="7010280" cy="403884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F830-BD51-407C-9999-84D342EBB5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ED4-A953-4AAE-8D95-6C349710DA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143000" y="243828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mm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96C6-243B-481D-A28C-C61AC2A2E9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A1C-21ED-43D7-9B52-2F16AEA2672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C1D3-E8FD-4CB3-B88A-6D46607E041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190512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FED-EF6F-4F01-87B3-710F3CC2E0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can work in all three parts of a three-part les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ere to use 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E47-B621-4596-937B-F1FF9E8B86D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example, a minds-on open question might be: Create two linear growing patterns that you think are really simil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FA5-D983-4FF3-89F1-2D7F79F6B4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5D8-9813-4AAB-B4D7-4C802A891B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066680" y="2057400"/>
            <a:ext cx="73152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ight such a question be effective in diagnosing student differ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0890-BA75-4D80-9662-6C5C9B74AA5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ECD-C1E5-4986-A12D-A56C92483E0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057400"/>
            <a:ext cx="731520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169-E659-4FCD-A56F-21315DF9FE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4572000"/>
          <a:ext cx="6095880" cy="11588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3D74-0F8E-4555-970C-708BAFFC83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th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8E8-1544-464D-AF35-2EC6173F61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76520"/>
            <a:ext cx="73152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3x –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1981080"/>
            <a:ext cx="3047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e relation… sort of like this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5F8C-74A1-4B8A-A13E-FC0C795B78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105520" y="1905120"/>
            <a:ext cx="30477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F513-F7DD-482D-A56B-AA05EC2061F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CFB8-9DAF-4BF1-9D94-F37C1731EA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2057400"/>
            <a:ext cx="7315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strategy do you think  I used to make this questio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n 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240-BE10-4486-B2FF-13A48BA5464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where your pattern starts relate to how fast it gr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758-CCEB-4BF6-9EF4-378D97311F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2380-5B6C-4F87-9C37-80D9B32929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2057400"/>
            <a:ext cx="73152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5791320" y="419112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A847-93A3-4AC4-B8DD-30F7513F3AC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make up other sets of quadratic equations that have something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5C9-CB68-4515-A271-D2866F29462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2057400"/>
            <a:ext cx="7315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List a bunch of possibiliti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ac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052-5839-40A7-8745-9B83819F65E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20574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517D-C208-4FD5-9B88-FAC63ADDAF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2057400"/>
            <a:ext cx="73152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consolid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6E37-4143-42D6-9D05-FC50544091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, e.g. 4x – 2 = 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underlying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3195-5C71-4400-B360-43B266BF9A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9A7-8D79-4402-B821-7E60D67C2B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DDE-8B79-42BB-9669-551DD51916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066680" y="2057400"/>
            <a:ext cx="73152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 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CF3-4BE5-4132-BE11-A15B5C8359B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the quadratic formula for solving quadratic eq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0EC-D3D9-42CE-9BA1-4478DDA0A6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BC9-DCE9-43F3-A497-2D4ADA73920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one? How is it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 might as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3FD-4D64-4378-8B73-C5FD27690F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057400"/>
            <a:ext cx="7315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you be sure about anything about how their equations d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9CD-8C04-46CF-A6BE-5E0539AC4F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066680" y="2057400"/>
            <a:ext cx="731520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ome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249-E48A-4477-8BA7-17CFFF5A1FB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2057400"/>
            <a:ext cx="73152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x +b = cx + d  (e.g. 2x – 4 =3x 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AB7-D051-4527-A52F-A77F9548026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open parts of it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tarting from a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4250-8719-401A-BD1E-FFD1683394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For example, a  growing pattern has 20 as the 9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90720" y="22096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p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lation the graph repres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0CD-941C-404E-B35C-2A0E36AE1E8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0D8A-B4BE-43A2-BC5A-72E613B231B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66680" y="2057400"/>
            <a:ext cx="73152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For example, how is factoring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5x+6 like and different from factoring 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B119-FF8C-4269-A029-8CA7F201C9B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For example, ask students to choose values for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-safe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824D-1525-4D3C-8FA9-40019230C10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066680" y="2057400"/>
            <a:ext cx="73152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ther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906C-1928-46F8-9713-145962EA820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2438280"/>
            <a:ext cx="7315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a partner, choose a les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6621-DD04-4673-BB99-189D165AEE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143000" y="2438280"/>
            <a:ext cx="7315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minds-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ct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nsolida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own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479C-30DD-4939-ACF5-1007A4250B0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143000" y="2438280"/>
            <a:ext cx="7315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act with others at your tab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ect one minds-on, one action, and one consolidate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t in the right sp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har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B37-33E9-4671-A6B4-D933F1C7A2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909E-3DF1-47A2-A693-24F6E353C2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143000" y="2438280"/>
            <a:ext cx="7315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open question should be accessible to virtually any stud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Minds-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0B2C-A144-4E3A-9CA2-FFF7D9D438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ADAE-7442-449E-A38E-42D48E2F293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143000" y="2438280"/>
            <a:ext cx="73152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Consoli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066680" y="2209680"/>
            <a:ext cx="7417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A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passes through the points (2,4) and (3,8).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the equa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the l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7E3-2E8F-4F9A-A575-0A09FD1BC2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made it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24F-F60A-48D7-994F-AF7394884B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2057400"/>
            <a:ext cx="25146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Write an equation and solv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3D9-79BE-4AE1-8DE8-24CB628A1C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952880" y="1981080"/>
            <a:ext cx="34290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 Solve 3x-2 = 8. Describe your strate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sing open questions for assessment for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 about how to proceed with your less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DD0-6848-4965-883E-A5CA9C578A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09:58Z</dcterms:created>
  <dc:creator>PSteele</dc:creator>
  <dc:description/>
  <dc:language>en-US</dc:language>
  <cp:lastModifiedBy>Marian Small</cp:lastModifiedBy>
  <dcterms:modified xsi:type="dcterms:W3CDTF">2009-08-20T15:28:23Z</dcterms:modified>
  <cp:revision>319</cp:revision>
  <dc:subject/>
  <dc:title>Slide 1</dc:title>
</cp:coreProperties>
</file>